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9115D-4705-443A-82C8-5AE900C6FC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F617F-5162-4534-92BB-A2C1BBCF2E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F8CE0-5A8D-406F-B648-9A9D53FE757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9E8E6-6F39-4615-A887-FD1E5F290C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1A5D2-CC04-4426-A950-D69F8DAEE0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B38B-5B03-48F0-9F36-95796F7350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580F-C743-492A-8630-2EC990D8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E09B-D060-426A-A1E2-5CF390CD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8AE6-D06A-418B-89BD-32BBD29033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6F04-D37E-4912-BF7C-7F0F9256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DB1C-05AD-4A58-81CA-1C0F9935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8E30-8DB9-44B2-B4A0-D3D070C3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B4D8-0B7B-406B-A650-0FB074D2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EBA1-19BD-4160-AF06-C469F2B3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5F9D-74E4-4B9B-87B8-A43B91F9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A178-92BC-43ED-AD11-B08AC58F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C3DD-002A-467E-AB93-A0D73DE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ACA50D-D73E-44AF-AC78-80E2AF2C365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CICLO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ciclo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199280" cy="32403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"/>
          <p:cNvSpPr/>
          <p:nvPr/>
        </p:nvSpPr>
        <p:spPr>
          <a:xfrm>
            <a:off x="1800360" y="3610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598920" y="3610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580000" y="3286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319640" y="25290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6480000" y="270972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4859280" y="288936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5759280" y="432900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3025800" y="41832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971640" y="1557360"/>
            <a:ext cx="2195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nergía solar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calentar la Tierra, evapora el agua superficial. El vapor de agua asciend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el aire cal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851280" y="1341360"/>
            <a:ext cx="2233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apor se condensa, dando lugar 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nub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6335640" y="549360"/>
            <a:ext cx="2808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las gotas de agua de las nubes se hacen grandes o se congelan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en en forma de precipitac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643280" y="5227560"/>
            <a:ext cx="30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gua de las precipitaciones forma corrientes superficiales que se deslizan haci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océano o bien se infiltra formando aguas subterráne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23 CuadroTexto"/>
          <p:cNvSpPr/>
          <p:nvPr/>
        </p:nvSpPr>
        <p:spPr>
          <a:xfrm>
            <a:off x="539640" y="1628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24 CuadroTexto"/>
          <p:cNvSpPr/>
          <p:nvPr/>
        </p:nvSpPr>
        <p:spPr>
          <a:xfrm>
            <a:off x="3419640" y="141300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25 CuadroTexto"/>
          <p:cNvSpPr/>
          <p:nvPr/>
        </p:nvSpPr>
        <p:spPr>
          <a:xfrm>
            <a:off x="5940360" y="620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211640" y="5516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9:50Z</dcterms:modified>
  <cp:revision>47</cp:revision>
  <dc:subject/>
  <dc:title>Diapositiva 1</dc:title>
</cp:coreProperties>
</file>